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56A-003B-4BA7-BB03-E3B5DF6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8484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0D9-6A2B-42A2-9BEB-2A97940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9F6-D281-4E61-97D5-1E04BBC8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90A-7D89-4DE5-A2EA-AEEBC65E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E27-872E-44A9-B523-5151074B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432-5036-47AB-A54E-533D3E85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38A6-D9EE-4F41-9F9B-C11F2AA6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3A0A-03DA-4CCB-81BE-BEA9523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6399-CC23-4565-AD46-D225F49C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F44-535F-497D-843D-1C19F983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FB0-AC84-4E7A-B515-897E6F2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2F3-1F2D-4F8D-801F-55E20253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888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90-D777-4672-96BA-1F89243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7420-C660-4087-A2C4-76367A7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600" y="398484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7C6C-0758-4241-8BBE-69C6970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888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A7D2-83EF-4FB3-B714-6131030E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14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4200" y="167652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6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14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4200" y="3984840"/>
            <a:ext cx="2821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D9C6-7089-4440-B1B5-68AF6457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D92-2157-4014-A887-33F67DC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4B2-D02F-4C98-B460-6888B7F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658-09A8-45B8-94D4-28670F6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952-55F0-4CFC-A4D2-88D5C9B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490-EB05-4F3A-A09F-37CF39E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98484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7FC-A2A7-4AA2-94DD-3C14218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676520"/>
            <a:ext cx="4276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84840"/>
            <a:ext cx="8763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4AC-746E-4F55-85B0-D18F257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181480"/>
            <a:ext cx="9144000" cy="1676520"/>
            <a:chOff x="0" y="5181480"/>
            <a:chExt cx="9144000" cy="1676520"/>
          </a:xfrm>
        </p:grpSpPr>
        <p:sp>
          <p:nvSpPr>
            <p:cNvPr id="1" name=""/>
            <p:cNvSpPr/>
            <p:nvPr/>
          </p:nvSpPr>
          <p:spPr>
            <a:xfrm>
              <a:off x="0" y="6705720"/>
              <a:ext cx="9144000" cy="152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5943600"/>
              <a:ext cx="9144000" cy="76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086600" y="6629400"/>
              <a:ext cx="2057400" cy="228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pic>
          <p:nvPicPr>
            <p:cNvPr id="4" name="daruma2" descr=""/>
            <p:cNvPicPr/>
            <p:nvPr/>
          </p:nvPicPr>
          <p:blipFill>
            <a:blip r:embed="rId2"/>
            <a:stretch/>
          </p:blipFill>
          <p:spPr>
            <a:xfrm>
              <a:off x="7815240" y="5181480"/>
              <a:ext cx="125244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ABD-240C-4508-A233-C4BDE3033E69}" type="slidenum">
              <a:rPr b="0" lang="ja-JP" sz="1400" spc="-1" strike="noStrike">
                <a:solidFill>
                  <a:srgbClr val="5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3886200"/>
            <a:ext cx="9144000" cy="2971800"/>
            <a:chOff x="0" y="3886200"/>
            <a:chExt cx="9144000" cy="2971800"/>
          </a:xfrm>
        </p:grpSpPr>
        <p:sp>
          <p:nvSpPr>
            <p:cNvPr id="47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486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15000" y="6324480"/>
              <a:ext cx="2895480" cy="304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eccd"/>
                </a:solidFill>
                <a:latin typeface="Times New Roman"/>
              </a:endParaRPr>
            </a:p>
          </p:txBody>
        </p:sp>
        <p:pic>
          <p:nvPicPr>
            <p:cNvPr id="50" name="daruma" descr=""/>
            <p:cNvPicPr/>
            <p:nvPr/>
          </p:nvPicPr>
          <p:blipFill>
            <a:blip r:embed="rId2"/>
            <a:stretch/>
          </p:blipFill>
          <p:spPr>
            <a:xfrm>
              <a:off x="6477120" y="3886200"/>
              <a:ext cx="2057400" cy="26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5B5-8F59-431D-94A6-5FA8CBC346CB}" type="slidenum">
              <a:rPr b="0" lang="ja-JP" sz="1400" spc="-1" strike="noStrike">
                <a:solidFill>
                  <a:srgbClr val="5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cc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7ecc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IP address allocation issues</a:t>
            </a:r>
            <a:br>
              <a:rPr sz="4400"/>
            </a:br>
            <a:r>
              <a:rPr b="0" lang="en-US" sz="3200" spc="-1" strike="noStrike">
                <a:solidFill>
                  <a:srgbClr val="dfb53f"/>
                </a:solidFill>
                <a:latin typeface="Times New Roman"/>
              </a:rPr>
              <a:t>for large scale permanent connection networks</a:t>
            </a:r>
            <a:endParaRPr b="0" lang="en-US" sz="32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5715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Yoshihiro OBATA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Internet Research Institute, Inc.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Permanen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cale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Permanent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Pre-assignment for entire infrastructure is required including customer access port = Difficulty in on-demand assignmen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Usage of customer access ports </a:t>
            </a:r>
            <a:r>
              <a:rPr b="0" lang="ja-JP" sz="3200" spc="-1" strike="noStrike">
                <a:solidFill>
                  <a:srgbClr val="f7eccd"/>
                </a:solidFill>
                <a:latin typeface="Symbol"/>
                <a:ea typeface="Symbol"/>
              </a:rPr>
              <a:t></a:t>
            </a: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 Required number of assignmen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Number of customer access ports = Number of customers = Required number of assignmen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Scale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Large scale assignment is required for nation wide permanent connection network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</a:rPr>
              <a:t>Example: 10% of Internet customer base in Japan=1 million users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</a:rPr>
              <a:t>More than 35% of users are on-line in case of permanent access network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</a:rPr>
              <a:t>Inefficiency in  address assignment in case of nation wide coverage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Speed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Fast expansion of permanent access service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Variety of media: CATV, Wireless, xDSL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User’s current payment for dial up gives good rationale to switch to permanent connection service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Large scale investmen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Bubble in US and Asian market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PPP over Ethernet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</a:rPr>
              <a:t>Large scale equipment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7eccd"/>
                </a:solidFill>
                <a:latin typeface="Times New Roman"/>
              </a:rPr>
              <a:t>Capacity of 100,000 in one box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</a:rPr>
              <a:t>Requires dual assignment of IP address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7eccd"/>
                </a:solidFill>
                <a:latin typeface="Times New Roman"/>
              </a:rPr>
              <a:t>PPP underlying infrastructure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7ecc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7eccd"/>
                </a:solidFill>
                <a:latin typeface="Times New Roman"/>
              </a:rPr>
              <a:t>Global address may be required in case where PPP and IP are mixed in the same infrastructure</a:t>
            </a:r>
            <a:endParaRPr b="0" lang="en-US" sz="1800" spc="-1" strike="noStrike">
              <a:solidFill>
                <a:srgbClr val="f7ecc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7eccd"/>
                </a:solidFill>
                <a:latin typeface="Times New Roman"/>
              </a:rPr>
              <a:t>PPP network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Use of DHCP may not scale up when a network sees rapid unbalanced growth in number of customers, which requires frequent renumbering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Other Problems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7eccd"/>
                </a:solidFill>
                <a:latin typeface="Times New Roman"/>
              </a:rPr>
              <a:t>RFC 2050 and RIR’s regulations assumes dial up access or medium scale permanent access by corporate or academic users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Number of dial up ports = Number of potential PPP sessions??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Rapid expansion of assignment window is required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Feedback to the community by APNIC from the experimental allocation of A class block to CATV Internet by ARIN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Establishment of study group in APNIC for IP address allocation to permanent connection consumer network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Establishment of similar study group in NIRs and LIRs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7eccd"/>
                </a:solidFill>
                <a:latin typeface="Times New Roman"/>
              </a:rPr>
              <a:t>Subjects for study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</a:rPr>
              <a:t>Experimental assignment to catch up with technology and market requirement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</a:rPr>
              <a:t>Requirement of change in RFC 2050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</a:rPr>
              <a:t>Requirement for new rules for IRs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00:45:11Z</dcterms:created>
  <dc:creator>Yoshihiro OBATA</dc:creator>
  <dc:description/>
  <dc:language>en-US</dc:language>
  <cp:lastModifiedBy>Yoshihiro OBATA</cp:lastModifiedBy>
  <dcterms:modified xsi:type="dcterms:W3CDTF">2000-02-19T03:36:46Z</dcterms:modified>
  <cp:revision>13</cp:revision>
  <dc:subject/>
  <dc:title>IP address allocation issues for large scale permanent connection networks</dc:title>
</cp:coreProperties>
</file>